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69ABB-F08C-450F-B3AE-E2E25261E1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30353E-9A14-43D1-9A57-C539686137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1F184A-DA8A-48B9-9FA6-F861F08764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D46EE0-2BAE-41AF-A868-25963547D7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88511E-5AF5-4332-AF3C-1AAE71A75E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9F1EC0-08D5-4E3A-A6DA-A2C9DFA586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537B37-D64F-41E3-A3B3-1884076A0E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04DD24-1D4D-4758-A289-730B130E09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E9E6-0741-4EAA-8119-B25152DB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7F22-005B-4093-AE6C-57E00356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F8C1-CEF6-4823-B2B6-B2D36C3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0CA9-79FD-4F44-8DA6-4BD90445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EAC-C242-4B3B-A3AE-DD89CABC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F17-B6EC-42C8-811C-AF70DA9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930-F705-446B-97EA-7EF30D6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6C75-3EDB-4792-AC69-F95A77FC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DFE5-7CEB-4005-9BC2-055874A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0C2-CFED-43FD-9987-A4300EB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096-183E-4DA1-9053-D7A02D5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CB5B-F609-4289-B95B-5118177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48D-AF2E-43EC-893A-AA2DB64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44E-40A8-47D9-95A1-1A5B4F9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21B8-7784-471C-975C-8024134D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ACA-A1C0-4F0F-ADC2-E66D9CC0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116-DDBA-4470-8CF3-92D2602B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F69A-E2F9-423B-BC63-5E5CB43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EFE4-74C8-4FE7-AB4C-2E848399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D55E-C458-4BDB-952B-A1FC09D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9535-05E0-41AA-BF94-266F909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2029-C498-4FE3-902E-5115386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1618-9F82-4739-A624-16C634E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5A43-EF13-499F-B210-9DEE04E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916-F06E-404D-9523-CCD298018B8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E04-9175-4E65-AF2B-094970802A85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828-E4AE-4549-AF38-1E1039E0ED2A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8780-C0D0-44C2-9CB8-A12D7A9D600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4357800" y="5286240"/>
            <a:ext cx="223344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9BF1-178E-4106-91EA-53B708428D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080" y="2131920"/>
            <a:ext cx="8928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Servicio de Digitalización de documentos y Administración electrónica de imágenes</a:t>
            </a:r>
            <a:r>
              <a:rPr b="1" lang="es-ES" sz="2500" spc="-1" strike="noStrike">
                <a:solidFill>
                  <a:srgbClr val="9999cc"/>
                </a:solidFill>
                <a:latin typeface="Arial"/>
              </a:rPr>
              <a:t>”</a:t>
            </a:r>
            <a:br>
              <a:rPr sz="2500"/>
            </a:br>
            <a:br>
              <a:rPr sz="29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2960" y="4214880"/>
            <a:ext cx="83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99cc"/>
                </a:solidFill>
                <a:latin typeface="Arial"/>
              </a:rPr>
              <a:t>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800000" cy="1081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2411280" y="4437000"/>
            <a:ext cx="612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999cc"/>
                </a:solidFill>
                <a:latin typeface="Arial"/>
              </a:rPr>
              <a:t>Salica del Ecua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ilitar a los usuarios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ar al mundo digital, habilitando en forma electrónica la documentación que se encuentra en forma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veer 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una base de información accesible para sus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una base de información sólida, que permita la consulta de imágen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3BD-ADDB-4E34-8267-840D315F6F5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Arial"/>
              </a:rPr>
              <a:t>Alcances y consi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1916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puesta ha sido desarrollada bajo los siguientes supuestos, todos ellos podrán ser analizados en forma conjunta con la Salica del Ecu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tidad de hojas: 40,000 aproxima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requiere hacer reconocimiento óptico de caracteres mediante O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ugar de digitalización deberá ser determinado de mutuo acuerdo entre las do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55640" y="3429000"/>
            <a:ext cx="1727280" cy="792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arga Masiva In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información históric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851280" y="1916280"/>
            <a:ext cx="1295280" cy="865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ceso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igitaliz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564000" y="3284640"/>
            <a:ext cx="187164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c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780000" y="5157720"/>
            <a:ext cx="1655640" cy="792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Scaneo mensual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Nuevos Document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215040" y="3357720"/>
            <a:ext cx="2357640" cy="1008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ágenes y 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finidos en línea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suarios de Salica del Ecu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4427640" y="2924280"/>
            <a:ext cx="144360" cy="144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843280" y="3716280"/>
            <a:ext cx="288720" cy="14436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796000" y="3716280"/>
            <a:ext cx="288720" cy="144360"/>
          </a:xfrm>
          <a:prstGeom prst="lef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24000" y="2492280"/>
            <a:ext cx="1944360" cy="792360"/>
          </a:xfrm>
          <a:custGeom>
            <a:avLst/>
            <a:gdLst>
              <a:gd name="textAreaLeft" fmla="*/ 0 w 1944360"/>
              <a:gd name="textAreaRight" fmla="*/ 1944720 w 1944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Capt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987640" y="2565360"/>
            <a:ext cx="2879640" cy="79056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Almacenamient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dm. y Custodia Digi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300720" y="2565360"/>
            <a:ext cx="2519280" cy="792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 de Difusión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Consultas de 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50920" y="3573360"/>
            <a:ext cx="230508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stema de Digitaliz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 Index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276720" y="3645000"/>
            <a:ext cx="2087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ervidor 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443640" y="3645000"/>
            <a:ext cx="1944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Interfas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95280" y="1433520"/>
            <a:ext cx="820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Nuestra solución se base en tres procesos básicos que se asocian a un sistema de información.  La arquitectura tecnológica sobre la cual se funda nuestro modelo es la siguient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50920" y="4653000"/>
            <a:ext cx="856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ceso de Captura e Indexació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realiza directamente en las instalaciones del cliente en consideración al alto volumen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ocumentos que se requiere proces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ervidor 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propone almacenar las imágenes en los servidores propios del cli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ceso de Difusión y Consultas de Inform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 realizará a través del Software DMS WinDr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6659640" y="5442120"/>
            <a:ext cx="244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proyecto se plantea de dos fa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 rot="5400000">
            <a:off x="503280" y="1782720"/>
            <a:ext cx="1366560" cy="194472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 Análisis, Diseñ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nfiguración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LATAFOR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OCU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rot="5400000">
            <a:off x="681480" y="3675960"/>
            <a:ext cx="1079640" cy="1871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Carga inicia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imá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95480" y="2297160"/>
            <a:ext cx="49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571840" y="1643040"/>
            <a:ext cx="624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acuerdo a las conversaciones sostenidas y a los procesos de búsqu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za sobre su documentación, se debe 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clasificación de los documentos. Esta debe permitir tanto la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os procesos de consulta de documentos, como la configuración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stema a ope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571840" y="2928960"/>
            <a:ext cx="638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1 Digit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Digitalización comprende la captura e indexación de las imágenes según las clasificaciones pre-defin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función de la clasificación de documentos y de estos datos se permitirá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sulta a la inform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643120" y="4214880"/>
            <a:ext cx="61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2 Dif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imágenes capturadas e indexadas serán cargadas, editadas y custodiadas en un Servidor Documental ubicado en las instalaciones de DataSolutions S.A o del cl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último, almacenará toda la información digitalizada, y de esta form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uario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alica del Ecuador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rán consultar desde su esta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bajo las imágenes de los docu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6694560" y="5700600"/>
            <a:ext cx="2449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28760" y="1214280"/>
            <a:ext cx="828036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stos del Servi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ervicio de digitalizaci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ón de documentos (Precios por Rangos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Servicio de almacenamiento digital (en caso de ser necesario):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$0.0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Incluye: almacenamiento electrónico en los servidores de DataSolu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Licencias: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$150.00 por lice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Arial"/>
              </a:rPr>
              <a:t>Nota: Este valor se cancela una sola vez durante la op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8760" y="2000160"/>
            <a:ext cx="8280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Cotización por rang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aginas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      Valor por p</a:t>
            </a:r>
            <a:r>
              <a:rPr b="1" lang="es-EC" sz="15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g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 a 1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0.001 - 2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8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.001 a 300.000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300.001 a 4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5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00.001 a 5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500001 a 6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600.0001 a 7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0.001 a 8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00.001 a 900.00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.000.001 en adelante           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0,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858000" y="5700600"/>
            <a:ext cx="2286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0:52:27Z</dcterms:created>
  <dc:creator>pilar_rumbea</dc:creator>
  <dc:description/>
  <dc:language>en-US</dc:language>
  <cp:lastModifiedBy>Sofía Chiriboga</cp:lastModifiedBy>
  <dcterms:modified xsi:type="dcterms:W3CDTF">2018-11-06T14:39:05Z</dcterms:modified>
  <cp:revision>58</cp:revision>
  <dc:subject/>
  <dc:title>SERVICIO INTEGRAL DE ARCHIVOS</dc:title>
</cp:coreProperties>
</file>