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CE1366-69D9-4EB8-9833-6919C69BD8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86FDC0-4BBA-47E3-BA1A-BCB7D75A8D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F096B3-E34B-49FE-A15D-7615F1B683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6B9F7C-C1D2-4992-BDBB-F06ED3EE8E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A545CE-6779-4327-AAEB-BD96C8E4DF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C0D142-C0EF-405B-8A2A-5044B5D0BD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E9DB81-F8CE-431D-8E38-C35A1349FD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103713-3C2A-420B-81AC-07612A5C7C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A84F-2E32-4999-829D-8DDFFBFD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18C9-8142-44EA-A498-B64F5CA0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0554-8777-469A-8B0C-35DBEF23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00D6-5B5E-4421-BDCD-9DDE3106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C450-D66C-40A4-967F-BE5DB813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EE0B-6ED8-4EC4-A0AD-524CC58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DCCB-7214-4988-81C5-B669542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DB70-579F-4F28-AA2B-61F535B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165E-7802-40C9-B2FF-4B032D03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82ED-25AD-4AC2-905B-2C6ECB04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B40-2D80-4106-990F-9E1671A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52D6-4590-486F-8EF8-3A98385E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1E80-8BDA-45F3-A74B-5954F56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B7D3-7A9B-4859-B658-1A7B002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15C-0842-46A6-91D5-A82BDAA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685-1FFE-403F-AE92-9FDFCF5C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273D-0255-4475-8FDB-0D93A5E5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889E-5835-48C6-90AB-46980CB4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4391-2B71-49F8-89D7-FE15BAA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E304-16CC-4254-9431-7C85602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6348-ED56-492F-9BE8-6FD754D3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0A4A-2F4F-4245-84CF-608832F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3592-A996-4BB2-B2C0-E13F512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A912-F94B-473D-B6B3-CF29613A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081-EE31-4165-AA14-0E07310E197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4256-6F77-423B-A816-BA0CEB6FCEFF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11E8-3FEF-4659-8C7A-D0347DAF257C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FEB-2CAD-4DA4-89B5-ACC0B3CB537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4357800" y="5286240"/>
            <a:ext cx="223344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817B-9085-4C11-8116-4ACDFDFFDDA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1080" y="2131920"/>
            <a:ext cx="8928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s-ES" sz="25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s-ES" sz="2500" spc="-1" strike="noStrike">
                <a:solidFill>
                  <a:srgbClr val="9999cc"/>
                </a:solidFill>
                <a:latin typeface="Arial"/>
              </a:rPr>
              <a:t>Servicio de Digitalización de documentos y Administración electrónica de imágenes</a:t>
            </a:r>
            <a:r>
              <a:rPr b="1" lang="es-ES" sz="2500" spc="-1" strike="noStrike">
                <a:solidFill>
                  <a:srgbClr val="9999cc"/>
                </a:solidFill>
                <a:latin typeface="Arial"/>
              </a:rPr>
              <a:t>”</a:t>
            </a:r>
            <a:br>
              <a:rPr sz="2500"/>
            </a:br>
            <a:br>
              <a:rPr sz="2900"/>
            </a:b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42960" y="4214880"/>
            <a:ext cx="83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99cc"/>
                </a:solidFill>
                <a:latin typeface="Arial"/>
              </a:rPr>
              <a:t>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800000" cy="1081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2411280" y="4437000"/>
            <a:ext cx="612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9999cc"/>
                </a:solidFill>
                <a:latin typeface="Arial"/>
              </a:rPr>
              <a:t>Salica del Ecuad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ilitar a los usuarios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ar al mundo digital, habilitando en forma electrónica la documentación que se encuentra en forma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veer 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una base de información accesible para sus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r una base de información sólida, que permita la consulta de imágene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F995-D619-4931-8350-2B0BD91503C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Arial"/>
              </a:rPr>
              <a:t>Alcances y consi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4000" y="191628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puesta ha sido desarrollada bajo los siguientes supuestos, todos ellos podrán ser analizados en forma conjunta con la Salica del Ecu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tidad de hojas: 40,000 aproxima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requiere hacer reconocimiento óptico de caracteres mediante O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ugar de digitalización deberá ser determinado de mutuo acuerdo entre las do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55640" y="3429000"/>
            <a:ext cx="1727280" cy="792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arga Masiva In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información históric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851280" y="1916280"/>
            <a:ext cx="1295280" cy="865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roceso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igitaliz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 Index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564000" y="3284640"/>
            <a:ext cx="187164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c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780000" y="5157720"/>
            <a:ext cx="1655640" cy="792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caneo mensual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Nuevos Document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215040" y="3357720"/>
            <a:ext cx="2357640" cy="1008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ágenes y re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finidos en línea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suarios de Salica del Ecu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4427640" y="2924280"/>
            <a:ext cx="144360" cy="144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843280" y="3716280"/>
            <a:ext cx="288720" cy="14436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796000" y="3716280"/>
            <a:ext cx="288720" cy="144360"/>
          </a:xfrm>
          <a:prstGeom prst="lef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465300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24000" y="2492280"/>
            <a:ext cx="1944360" cy="792360"/>
          </a:xfrm>
          <a:custGeom>
            <a:avLst/>
            <a:gdLst>
              <a:gd name="textAreaLeft" fmla="*/ 0 w 1944360"/>
              <a:gd name="textAreaRight" fmla="*/ 1944720 w 1944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 de Captu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 Index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987640" y="2565360"/>
            <a:ext cx="2879640" cy="79056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 de Almacenamiento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dm. y Custodia Digi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300720" y="2565360"/>
            <a:ext cx="2519280" cy="79236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 de Difusión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Consultas de inform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50920" y="3573360"/>
            <a:ext cx="230508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stema de Digitaliz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 Index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276720" y="3645000"/>
            <a:ext cx="208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ervidor Docu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443640" y="3645000"/>
            <a:ext cx="1944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Interfase 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95280" y="1433520"/>
            <a:ext cx="820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Nuestra solución se base en tres procesos básicos que se asocian a un sistema de información.  La arquitectura tecnológica sobre la cual se funda nuestro modelo es la siguient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50920" y="4653000"/>
            <a:ext cx="856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ceso de Captura e Indexació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realiza directamente en las instalaciones del cliente en consideración al alto volumen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documentos que se requiere proces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ervidor Docu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propone almacenar las imágenes en los servidores propios del cli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ceso de Difusión y Consultas de Inform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realizará a través del Software DMS WinDr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ases del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proyecto se plantea de dos fas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 rot="5400000">
            <a:off x="503280" y="1782720"/>
            <a:ext cx="1366560" cy="194472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 Análisis, Diseñ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Configuración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LATAFOR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DOCU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rot="5400000">
            <a:off x="681480" y="3675960"/>
            <a:ext cx="1079640" cy="1871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Carga inicial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imág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895480" y="2297160"/>
            <a:ext cx="49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571840" y="1643040"/>
            <a:ext cx="624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acuerdo a las conversaciones sostenidas y a los procesos de búsqu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aliza sobre su documentación, se debe defi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clasificación de los documentos. Esta debe permitir tanto la flex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os procesos de consulta de documentos, como la configuración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stema a oper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571840" y="2928960"/>
            <a:ext cx="638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1 Digit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Digitalización comprende la captura e indexación de las imágenes según las clasificaciones pre-defin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función de la clasificación de documentos y de estos datos se permitirá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sulta a la inform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643120" y="4214880"/>
            <a:ext cx="61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2 Dif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imágenes capturadas e indexadas serán cargadas, editadas y custodiadas en un Servidor Documental ubicado en las instalaciones de DataSolutions S.A o del cl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último, almacenará toda la información digitalizada, y de esta form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uarios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rán consultar desde su esta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bajo las imágenes de los docu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6694560" y="5700600"/>
            <a:ext cx="2449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28760" y="1214280"/>
            <a:ext cx="828036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Costos del Servi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rvicio de digitalizaci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ón de documentos (Precios por Rangos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Servicio de almacenamiento digital (en caso de ser necesario):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$0.0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Incluye: almacenamiento electrónico en los servidores de DataSolu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Licencias: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$150.00 por lice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Nota: Este valor se cancela una sola vez durante la op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28760" y="2000160"/>
            <a:ext cx="8280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Cotización por rang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aginas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Valor por p</a:t>
            </a:r>
            <a:r>
              <a:rPr b="1" lang="es-EC" sz="15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g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 a 1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0.001 - 2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8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.001 a 300.000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300.001 a 4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5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00.001 a 5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500001 a 6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600.0001 a 7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4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0.001 a 8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00.001 a 9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.000.001 en adelante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858000" y="5700600"/>
            <a:ext cx="22860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0:52:27Z</dcterms:created>
  <dc:creator>pilar_rumbea</dc:creator>
  <dc:description/>
  <dc:language>en-US</dc:language>
  <cp:lastModifiedBy>mbajana</cp:lastModifiedBy>
  <dcterms:modified xsi:type="dcterms:W3CDTF">2009-03-30T16:56:39Z</dcterms:modified>
  <cp:revision>58</cp:revision>
  <dc:subject/>
  <dc:title>SERVICIO INTEGRAL DE ARCHIVOS</dc:title>
</cp:coreProperties>
</file>